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20F4F-FF68-4AD8-93F3-4BFBB5778A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79B04-8203-4946-A962-4522E0A2769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C52C6-99F6-46A9-83AE-6667F177C5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8293A-0B64-4D11-9DB9-4D75850509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C80D0-4802-4AAB-B24E-B5AA86CCFA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00751-379B-42E4-9E2C-9E8B236689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5733-1826-44F0-AFD2-D08537107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ADE5-C87D-43C0-B64B-C804B1C0F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F42C-215F-4C7A-A569-FAC7F9034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DFCA-2C85-487F-AA8E-1C7421A20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FF0D-FBD2-40DF-B73A-54ECE8BD68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1954-DC4A-4BA5-A295-7FBFDD44A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2519-4EA5-4DF1-B8EB-427F4BD3CF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9A51-1662-4C83-ADD2-68717EFDE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1095-DF5E-457D-9AEA-3ED11D5DF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8BEB-CC86-463B-97EF-C4CDD73472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8C94-A587-44BF-B2BB-A04E48640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7531-076A-46D2-9DEB-895E2ABAC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8B8F-7F62-4A9E-9D2E-4B7229D83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FC2A-4A19-4158-BAA9-7E04AF7961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EBF6-8F92-479A-8E2B-99BAE67CB7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59B9-5D6F-49D2-8F13-80FDF29D75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B998-ABF7-428A-AC0D-42011C8EE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1DDB-0447-4FDA-8F3A-6B8DE5F28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5C61-FBDD-4B73-A786-D21ADE323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C625-9E0C-44D9-8C23-B50474810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9664-7154-488F-B7D5-413422089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6003-BC97-4367-8035-04427C3E0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F5FD-7A0D-4E89-AD0F-4BF8A3A1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15DC-0AB3-4209-9900-1B88AD5E2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D592C4-F2AA-400A-95C6-DDA8FA33B3F3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3AF3FD19-81B2-4128-90AE-A4A716B219E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9BFF62-B7CE-4F38-9F48-C8F0F9438DD8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970A8F59-8A5C-496B-9525-DE234D774DF5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ERD2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9 september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gegevens bron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772320" cy="305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2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Structuur informa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.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Gebruik EA prof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Aanleiding &amp; uitgangspunt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Harmonisatie STUF NEN36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78595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onderscheid in presentatie (catalogus)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registratie (EA)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714680" y="285840"/>
            <a:ext cx="661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meta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2"/>
          <p:cNvSpPr/>
          <p:nvPr/>
        </p:nvSpPr>
        <p:spPr>
          <a:xfrm>
            <a:off x="714240" y="2071800"/>
            <a:ext cx="76438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Een model van een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is een model gemaakt op een ho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bstractie niveau die de regels en construc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(syntax en semantiek) van het onderliggen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model aangeef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hoek 64"/>
          <p:cNvSpPr/>
          <p:nvPr/>
        </p:nvSpPr>
        <p:spPr>
          <a:xfrm>
            <a:off x="3786120" y="1143000"/>
            <a:ext cx="12146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65"/>
          <p:cNvSpPr/>
          <p:nvPr/>
        </p:nvSpPr>
        <p:spPr>
          <a:xfrm>
            <a:off x="6000840" y="114300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66"/>
          <p:cNvSpPr/>
          <p:nvPr/>
        </p:nvSpPr>
        <p:spPr>
          <a:xfrm>
            <a:off x="1214280" y="1143000"/>
            <a:ext cx="857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el 1"/>
          <p:cNvSpPr/>
          <p:nvPr/>
        </p:nvSpPr>
        <p:spPr>
          <a:xfrm>
            <a:off x="1571760" y="21420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276960" cy="50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el 1"/>
          <p:cNvSpPr/>
          <p:nvPr/>
        </p:nvSpPr>
        <p:spPr>
          <a:xfrm>
            <a:off x="164304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&amp;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formatie model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334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Harmen Mantel</cp:lastModifiedBy>
  <dcterms:modified xsi:type="dcterms:W3CDTF">2010-10-20T05:26:30Z</dcterms:modified>
  <cp:revision>15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